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5114-DB62-40DD-9E06-8F1340D0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8760-6C2C-498E-B158-E13074D7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4A48-5651-4E88-A632-57BE7233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F15D-AAC4-4885-9E5E-88A84491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5988-96E7-4B88-80E1-675868A4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B7C1-07DB-401B-8D21-F33F2684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F03D-5933-477D-8BFF-6FF9A420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6390-03F0-4DC1-95BC-E7F2C30E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37FC-09EE-41C8-A927-BE942038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8BFB-9F3E-483A-A736-E101BFE3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61A9-41BF-45D3-B785-91CFF900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A619-1096-41C4-AC4A-B8283634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715F-7E8E-4490-B25F-CF59907A6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Intermediate P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2060640"/>
            <a:ext cx="7924680" cy="43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eparation of the Bo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Lesson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ednesday 9</a:t>
            </a:r>
            <a:r>
              <a:rPr b="1" lang="en-US" sz="48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 Septe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1295280"/>
            <a:ext cx="86868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termination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mportant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ttempting to win a 50:50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ttempting to reach a ball that is running out of 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atigue sets in and you must continue to maintain a high level of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1905120" cy="14842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7238880" y="1447920"/>
            <a:ext cx="125892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095480"/>
            <a:ext cx="86868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Motiv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Comic Sans MS"/>
              </a:rPr>
              <a:t>What drives a performer to improve and succe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413000"/>
            <a:ext cx="86868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Motivation can be internal or external and is important wh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raining in poor cond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raining when ti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raining when practice is repet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1447920"/>
            <a:ext cx="86868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ask 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Complete page 11 of your course no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Time – 5 minu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280" y="838080"/>
            <a:ext cx="868680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evels of Arous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Relationship Between Arousal and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6248520" cy="3532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28600" y="5943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hat can affect levels of arous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</a:rPr>
              <a:t>Homework Tas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0920" y="1268280"/>
            <a:ext cx="8458200" cy="47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Read through course notes pages 1 – 14 and ensure that workboxes 2 &amp; 3 have been completed.  Use A4 lined paper to complete these.  Course notes will be collected in next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Answer the following question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1) With reference to two aspects of fitness describe, briefly, the methods you used to assess your fitness. 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2349360"/>
            <a:ext cx="86421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y the end of today’s lesson you  should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escribe and explain how to use a match analysis sched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terpret results from all 3 standardised t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dentify strengths and weaknesses in your own fit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Initial tas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676520"/>
            <a:ext cx="792468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2060640"/>
            <a:ext cx="8424720" cy="37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 your jotters write down the foll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 rules of hoc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 different passes that you ca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 positions that you can play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2349360"/>
            <a:ext cx="86421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y the end of today’s lesson you  should be ab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escribe and explain how to use a match analysis sched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terpret results from all 3 standardised t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dentify strengths and weaknesses in your own fit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atch Analysis Sched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295280"/>
            <a:ext cx="868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838080" y="1219320"/>
            <a:ext cx="7696080" cy="5181480"/>
            <a:chOff x="838080" y="1219320"/>
            <a:chExt cx="7696080" cy="5181480"/>
          </a:xfrm>
        </p:grpSpPr>
        <p:grpSp>
          <p:nvGrpSpPr>
            <p:cNvPr id="51" name=""/>
            <p:cNvGrpSpPr/>
            <p:nvPr/>
          </p:nvGrpSpPr>
          <p:grpSpPr>
            <a:xfrm>
              <a:off x="842760" y="1222920"/>
              <a:ext cx="7684920" cy="5173200"/>
              <a:chOff x="842760" y="1222920"/>
              <a:chExt cx="7684920" cy="517320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842760" y="1222920"/>
                <a:ext cx="954360" cy="696960"/>
                <a:chOff x="842760" y="1222920"/>
                <a:chExt cx="954360" cy="69696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915840" y="1222920"/>
                  <a:ext cx="807840" cy="69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Comic Sans MS"/>
                      <a:ea typeface="Arial Unicode MS"/>
                    </a:rPr>
                    <a:t>Time (mins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42760" y="1222920"/>
                  <a:ext cx="954360" cy="696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1797480" y="1222920"/>
                <a:ext cx="1371240" cy="696960"/>
                <a:chOff x="1797480" y="1222920"/>
                <a:chExt cx="1371240" cy="69696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1870200" y="1222920"/>
                  <a:ext cx="1225080" cy="69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Comic Sans MS"/>
                      <a:ea typeface="Arial Unicode MS"/>
                    </a:rPr>
                    <a:t>Standing Still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797480" y="1222920"/>
                  <a:ext cx="1371240" cy="696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3169080" y="1222920"/>
                <a:ext cx="1371240" cy="696960"/>
                <a:chOff x="3169080" y="1222920"/>
                <a:chExt cx="1371240" cy="69696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3242160" y="1222920"/>
                  <a:ext cx="1225080" cy="69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Comic Sans MS"/>
                      <a:ea typeface="Arial Unicode MS"/>
                    </a:rPr>
                    <a:t>Walking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169080" y="1222920"/>
                  <a:ext cx="1371240" cy="696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4540680" y="1222920"/>
                <a:ext cx="1371600" cy="696960"/>
                <a:chOff x="4540680" y="1222920"/>
                <a:chExt cx="1371600" cy="69696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613760" y="1222920"/>
                  <a:ext cx="1225080" cy="69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Comic Sans MS"/>
                      <a:ea typeface="Arial Unicode MS"/>
                    </a:rPr>
                    <a:t>Jogging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540680" y="1222920"/>
                  <a:ext cx="1371600" cy="696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5912640" y="1222920"/>
                <a:ext cx="1371240" cy="696960"/>
                <a:chOff x="5912640" y="1222920"/>
                <a:chExt cx="1371240" cy="69696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5985360" y="1222920"/>
                  <a:ext cx="1225080" cy="69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Comic Sans MS"/>
                      <a:ea typeface="Arial Unicode MS"/>
                    </a:rPr>
                    <a:t>Mid-Pace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5912640" y="1222920"/>
                  <a:ext cx="1371240" cy="696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7284240" y="1222920"/>
                <a:ext cx="1243440" cy="696960"/>
                <a:chOff x="7284240" y="1222920"/>
                <a:chExt cx="1243440" cy="69696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7356960" y="1222920"/>
                  <a:ext cx="1097640" cy="69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Comic Sans MS"/>
                      <a:ea typeface="Arial Unicode MS"/>
                    </a:rPr>
                    <a:t>Sprinting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284240" y="1222920"/>
                  <a:ext cx="1243440" cy="696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842760" y="1919880"/>
                <a:ext cx="954360" cy="561240"/>
                <a:chOff x="842760" y="1919880"/>
                <a:chExt cx="954360" cy="5612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915840" y="1919880"/>
                  <a:ext cx="80784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Comic Sans MS"/>
                      <a:ea typeface="Arial Unicode MS"/>
                    </a:rPr>
                    <a:t>0-1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842760" y="1919880"/>
                  <a:ext cx="95436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1797480" y="1919880"/>
                <a:ext cx="1371240" cy="561240"/>
                <a:chOff x="1797480" y="1919880"/>
                <a:chExt cx="1371240" cy="56124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1870200" y="1919880"/>
                  <a:ext cx="122508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797480" y="1919880"/>
                  <a:ext cx="137124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3169080" y="1919880"/>
                <a:ext cx="1371240" cy="561240"/>
                <a:chOff x="3169080" y="1919880"/>
                <a:chExt cx="1371240" cy="56124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3242160" y="1919880"/>
                  <a:ext cx="122508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169080" y="1919880"/>
                  <a:ext cx="137124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4540680" y="1919880"/>
                <a:ext cx="1371600" cy="561240"/>
                <a:chOff x="4540680" y="1919880"/>
                <a:chExt cx="1371600" cy="56124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4613760" y="1919880"/>
                  <a:ext cx="122508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540680" y="1919880"/>
                  <a:ext cx="1371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912640" y="1919880"/>
                <a:ext cx="1371240" cy="561240"/>
                <a:chOff x="5912640" y="1919880"/>
                <a:chExt cx="1371240" cy="56124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5985360" y="1919880"/>
                  <a:ext cx="122508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912640" y="1919880"/>
                  <a:ext cx="137124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7284240" y="1919880"/>
                <a:ext cx="1243440" cy="561240"/>
                <a:chOff x="7284240" y="1919880"/>
                <a:chExt cx="1243440" cy="56124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7356960" y="1919880"/>
                  <a:ext cx="109764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284240" y="1919880"/>
                  <a:ext cx="124344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842760" y="2481120"/>
                <a:ext cx="954360" cy="560880"/>
                <a:chOff x="842760" y="2481120"/>
                <a:chExt cx="954360" cy="5608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915840" y="2481120"/>
                  <a:ext cx="80784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Comic Sans MS"/>
                      <a:ea typeface="Arial Unicode MS"/>
                    </a:rPr>
                    <a:t>10-2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42760" y="2481120"/>
                  <a:ext cx="95436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1797480" y="2481120"/>
                <a:ext cx="1371240" cy="560880"/>
                <a:chOff x="1797480" y="2481120"/>
                <a:chExt cx="1371240" cy="5608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1870200" y="2481120"/>
                  <a:ext cx="122508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797480" y="2481120"/>
                  <a:ext cx="137124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3169080" y="2481120"/>
                <a:ext cx="1371240" cy="560880"/>
                <a:chOff x="3169080" y="2481120"/>
                <a:chExt cx="1371240" cy="5608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3242160" y="2481120"/>
                  <a:ext cx="122508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169080" y="2481120"/>
                  <a:ext cx="137124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4540680" y="2481120"/>
                <a:ext cx="1371600" cy="560880"/>
                <a:chOff x="4540680" y="2481120"/>
                <a:chExt cx="1371600" cy="5608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613760" y="2481120"/>
                  <a:ext cx="122508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540680" y="2481120"/>
                  <a:ext cx="1371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5912640" y="2481120"/>
                <a:ext cx="1371240" cy="560880"/>
                <a:chOff x="5912640" y="2481120"/>
                <a:chExt cx="1371240" cy="56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985360" y="2481120"/>
                  <a:ext cx="122508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912640" y="2481120"/>
                  <a:ext cx="137124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7284240" y="2481120"/>
                <a:ext cx="1243440" cy="560880"/>
                <a:chOff x="7284240" y="2481120"/>
                <a:chExt cx="1243440" cy="56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7356960" y="2481120"/>
                  <a:ext cx="109764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284240" y="2481120"/>
                  <a:ext cx="124344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842760" y="3042360"/>
                <a:ext cx="954360" cy="561240"/>
                <a:chOff x="842760" y="3042360"/>
                <a:chExt cx="954360" cy="56124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915840" y="3042360"/>
                  <a:ext cx="80784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Comic Sans MS"/>
                      <a:ea typeface="Arial Unicode MS"/>
                    </a:rPr>
                    <a:t>20-3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842760" y="3042360"/>
                  <a:ext cx="95436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1797480" y="3042360"/>
                <a:ext cx="1371240" cy="561240"/>
                <a:chOff x="1797480" y="3042360"/>
                <a:chExt cx="1371240" cy="5612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870200" y="3042360"/>
                  <a:ext cx="122508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797480" y="3042360"/>
                  <a:ext cx="137124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3169080" y="3042360"/>
                <a:ext cx="1371240" cy="561240"/>
                <a:chOff x="3169080" y="3042360"/>
                <a:chExt cx="1371240" cy="56124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3242160" y="3042360"/>
                  <a:ext cx="122508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169080" y="3042360"/>
                  <a:ext cx="137124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4540680" y="3042360"/>
                <a:ext cx="1371600" cy="561240"/>
                <a:chOff x="4540680" y="3042360"/>
                <a:chExt cx="1371600" cy="56124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4613760" y="3042360"/>
                  <a:ext cx="122508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540680" y="3042360"/>
                  <a:ext cx="1371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5912640" y="3042360"/>
                <a:ext cx="1371240" cy="561240"/>
                <a:chOff x="5912640" y="3042360"/>
                <a:chExt cx="1371240" cy="56124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5985360" y="3042360"/>
                  <a:ext cx="122508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912640" y="3042360"/>
                  <a:ext cx="137124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7284240" y="3042360"/>
                <a:ext cx="1243440" cy="561240"/>
                <a:chOff x="7284240" y="3042360"/>
                <a:chExt cx="1243440" cy="56124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7356960" y="3042360"/>
                  <a:ext cx="109764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284240" y="3042360"/>
                  <a:ext cx="124344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842760" y="3603600"/>
                <a:ext cx="954360" cy="560880"/>
                <a:chOff x="842760" y="3603600"/>
                <a:chExt cx="954360" cy="5608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915840" y="3603600"/>
                  <a:ext cx="80784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Comic Sans MS"/>
                      <a:ea typeface="Arial Unicode MS"/>
                    </a:rPr>
                    <a:t>30-4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842760" y="3603600"/>
                  <a:ext cx="95436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1797480" y="3603600"/>
                <a:ext cx="1371240" cy="560880"/>
                <a:chOff x="1797480" y="3603600"/>
                <a:chExt cx="1371240" cy="5608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870200" y="3603600"/>
                  <a:ext cx="122508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797480" y="3603600"/>
                  <a:ext cx="137124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3169080" y="3603600"/>
                <a:ext cx="1371240" cy="560880"/>
                <a:chOff x="3169080" y="3603600"/>
                <a:chExt cx="1371240" cy="5608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3242160" y="3603600"/>
                  <a:ext cx="122508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169080" y="3603600"/>
                  <a:ext cx="137124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4540680" y="3603600"/>
                <a:ext cx="1371600" cy="560880"/>
                <a:chOff x="4540680" y="3603600"/>
                <a:chExt cx="1371600" cy="5608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613760" y="3603600"/>
                  <a:ext cx="122508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540680" y="3603600"/>
                  <a:ext cx="1371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5912640" y="3603600"/>
                <a:ext cx="1371240" cy="560880"/>
                <a:chOff x="5912640" y="3603600"/>
                <a:chExt cx="1371240" cy="5608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5985360" y="3603600"/>
                  <a:ext cx="122508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912640" y="3603600"/>
                  <a:ext cx="137124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7284240" y="3603600"/>
                <a:ext cx="1243440" cy="560880"/>
                <a:chOff x="7284240" y="3603600"/>
                <a:chExt cx="1243440" cy="5608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7356960" y="3603600"/>
                  <a:ext cx="109764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284240" y="3603600"/>
                  <a:ext cx="124344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842760" y="4164480"/>
                <a:ext cx="954360" cy="560880"/>
                <a:chOff x="842760" y="4164480"/>
                <a:chExt cx="954360" cy="56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915840" y="4164480"/>
                  <a:ext cx="80784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Comic Sans MS"/>
                      <a:ea typeface="Arial Unicode MS"/>
                    </a:rPr>
                    <a:t>40-5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42760" y="4164480"/>
                  <a:ext cx="95436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1797480" y="4164480"/>
                <a:ext cx="1371240" cy="560880"/>
                <a:chOff x="1797480" y="4164480"/>
                <a:chExt cx="1371240" cy="56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870200" y="4164480"/>
                  <a:ext cx="122508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797480" y="4164480"/>
                  <a:ext cx="137124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3169080" y="4164480"/>
                <a:ext cx="1371240" cy="560880"/>
                <a:chOff x="3169080" y="4164480"/>
                <a:chExt cx="1371240" cy="56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242160" y="4164480"/>
                  <a:ext cx="122508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169080" y="4164480"/>
                  <a:ext cx="137124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4540680" y="4164480"/>
                <a:ext cx="1371600" cy="560880"/>
                <a:chOff x="4540680" y="4164480"/>
                <a:chExt cx="1371600" cy="56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613760" y="4164480"/>
                  <a:ext cx="122508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540680" y="4164480"/>
                  <a:ext cx="1371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912640" y="4164480"/>
                <a:ext cx="1371240" cy="560880"/>
                <a:chOff x="5912640" y="4164480"/>
                <a:chExt cx="1371240" cy="5608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985360" y="4164480"/>
                  <a:ext cx="122508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912640" y="4164480"/>
                  <a:ext cx="137124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7284240" y="4164480"/>
                <a:ext cx="1243440" cy="560880"/>
                <a:chOff x="7284240" y="4164480"/>
                <a:chExt cx="1243440" cy="5608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7356960" y="4164480"/>
                  <a:ext cx="109764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284240" y="4164480"/>
                  <a:ext cx="124344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842760" y="4725720"/>
                <a:ext cx="954360" cy="548280"/>
                <a:chOff x="842760" y="4725720"/>
                <a:chExt cx="954360" cy="5482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915840" y="4725720"/>
                  <a:ext cx="807840" cy="54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Comic Sans MS"/>
                      <a:ea typeface="Arial Unicode MS"/>
                    </a:rPr>
                    <a:t>50-6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842760" y="4725720"/>
                  <a:ext cx="954360" cy="54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1797480" y="4725720"/>
                <a:ext cx="1371240" cy="548280"/>
                <a:chOff x="1797480" y="4725720"/>
                <a:chExt cx="1371240" cy="5482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1870200" y="4725720"/>
                  <a:ext cx="1225080" cy="54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797480" y="4725720"/>
                  <a:ext cx="1371240" cy="54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3169080" y="4725720"/>
                <a:ext cx="1371240" cy="548280"/>
                <a:chOff x="3169080" y="4725720"/>
                <a:chExt cx="1371240" cy="5482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242160" y="4725720"/>
                  <a:ext cx="1225080" cy="54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mic Sans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169080" y="4725720"/>
                  <a:ext cx="1371240" cy="54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540680" y="4725720"/>
                <a:ext cx="1371600" cy="548280"/>
                <a:chOff x="4540680" y="4725720"/>
                <a:chExt cx="1371600" cy="5482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613760" y="4725720"/>
                  <a:ext cx="1225080" cy="54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540680" y="4725720"/>
                  <a:ext cx="1371600" cy="54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5912640" y="4725720"/>
                <a:ext cx="1371240" cy="548280"/>
                <a:chOff x="5912640" y="4725720"/>
                <a:chExt cx="1371240" cy="5482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985360" y="4725720"/>
                  <a:ext cx="1225080" cy="54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912640" y="4725720"/>
                  <a:ext cx="1371240" cy="54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7284240" y="4725720"/>
                <a:ext cx="1243440" cy="548280"/>
                <a:chOff x="7284240" y="4725720"/>
                <a:chExt cx="1243440" cy="5482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7356960" y="4725720"/>
                  <a:ext cx="1097640" cy="54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284240" y="4725720"/>
                  <a:ext cx="1243440" cy="54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842760" y="5274000"/>
                <a:ext cx="954360" cy="560880"/>
                <a:chOff x="842760" y="5274000"/>
                <a:chExt cx="954360" cy="5608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915840" y="5274000"/>
                  <a:ext cx="80784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Comic Sans MS"/>
                      <a:ea typeface="Arial Unicode MS"/>
                    </a:rPr>
                    <a:t>60-7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42760" y="5274000"/>
                  <a:ext cx="95436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1797480" y="5274000"/>
                <a:ext cx="1371240" cy="560880"/>
                <a:chOff x="1797480" y="5274000"/>
                <a:chExt cx="1371240" cy="5608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870200" y="5274000"/>
                  <a:ext cx="122508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797480" y="5274000"/>
                  <a:ext cx="137124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3169080" y="5274000"/>
                <a:ext cx="1371240" cy="560880"/>
                <a:chOff x="3169080" y="5274000"/>
                <a:chExt cx="1371240" cy="5608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3242160" y="5274000"/>
                  <a:ext cx="122508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169080" y="5274000"/>
                  <a:ext cx="137124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4540680" y="5274000"/>
                <a:ext cx="1371600" cy="560880"/>
                <a:chOff x="4540680" y="5274000"/>
                <a:chExt cx="1371600" cy="5608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4613760" y="5274000"/>
                  <a:ext cx="122508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540680" y="5274000"/>
                  <a:ext cx="137160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912640" y="5274000"/>
                <a:ext cx="1371240" cy="560880"/>
                <a:chOff x="5912640" y="5274000"/>
                <a:chExt cx="1371240" cy="5608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985360" y="5274000"/>
                  <a:ext cx="122508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912640" y="5274000"/>
                  <a:ext cx="137124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7284240" y="5274000"/>
                <a:ext cx="1243440" cy="560880"/>
                <a:chOff x="7284240" y="5274000"/>
                <a:chExt cx="1243440" cy="5608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7356960" y="5274000"/>
                  <a:ext cx="1097640" cy="56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284240" y="5274000"/>
                  <a:ext cx="1243440" cy="56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842760" y="5834880"/>
                <a:ext cx="954360" cy="561240"/>
                <a:chOff x="842760" y="5834880"/>
                <a:chExt cx="954360" cy="5612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915840" y="5834880"/>
                  <a:ext cx="80784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842760" y="5834880"/>
                  <a:ext cx="95436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1797480" y="5834880"/>
                <a:ext cx="1371240" cy="561240"/>
                <a:chOff x="1797480" y="5834880"/>
                <a:chExt cx="1371240" cy="5612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1870200" y="5834880"/>
                  <a:ext cx="122508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797480" y="5834880"/>
                  <a:ext cx="137124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3169080" y="5834880"/>
                <a:ext cx="1371240" cy="561240"/>
                <a:chOff x="3169080" y="5834880"/>
                <a:chExt cx="1371240" cy="56124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3242160" y="5834880"/>
                  <a:ext cx="122508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169080" y="5834880"/>
                  <a:ext cx="137124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4540680" y="5834880"/>
                <a:ext cx="1371600" cy="561240"/>
                <a:chOff x="4540680" y="5834880"/>
                <a:chExt cx="1371600" cy="5612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613760" y="5834880"/>
                  <a:ext cx="122508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540680" y="5834880"/>
                  <a:ext cx="137160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5912640" y="5834880"/>
                <a:ext cx="1371240" cy="561240"/>
                <a:chOff x="5912640" y="5834880"/>
                <a:chExt cx="1371240" cy="56124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5985360" y="5834880"/>
                  <a:ext cx="122508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912640" y="5834880"/>
                  <a:ext cx="137124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7284240" y="5834880"/>
                <a:ext cx="1243440" cy="561240"/>
                <a:chOff x="7284240" y="5834880"/>
                <a:chExt cx="1243440" cy="561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7356960" y="5834880"/>
                  <a:ext cx="1097640" cy="56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284240" y="5834880"/>
                  <a:ext cx="1243440" cy="56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4" name=""/>
            <p:cNvSpPr/>
            <p:nvPr/>
          </p:nvSpPr>
          <p:spPr>
            <a:xfrm>
              <a:off x="838080" y="1219320"/>
              <a:ext cx="7696080" cy="5181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Match Analysis Schedu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1676520"/>
            <a:ext cx="792468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2133720"/>
            <a:ext cx="813600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n the back of page 14 of your course notes neatly describe in detail how to gather information using this schedule.  Remember to sta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o carries it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 what situation is it carried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does it look 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is it complete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Rea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1676520"/>
            <a:ext cx="792468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0920" y="278136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age 14 of your course 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Analysing Resul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676520"/>
            <a:ext cx="792468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2133720"/>
            <a:ext cx="813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mpare scores with normativ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dentify strengths and weakn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et priorities for train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Analysing Resul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1676520"/>
            <a:ext cx="86868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omplete the handout on analysing the results of the 3 standardised tes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ime – 15 m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Mental Aspects of Fit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1295280"/>
            <a:ext cx="8686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etermin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Comic Sans MS"/>
              </a:rPr>
              <a:t>The desire to succe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1905120" cy="14842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7238880" y="1447920"/>
            <a:ext cx="125892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09-09-09T07:30:22Z</dcterms:modified>
  <cp:revision>16</cp:revision>
  <dc:subject/>
  <dc:title>Intermediate PE</dc:title>
</cp:coreProperties>
</file>